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6858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teelfish Rg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E38AD2A-0E45-4034-A3D4-D32FD31CA0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C24-8B5B-4138-94A2-EC7FD0DA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D77-C694-43B0-9B6B-5728E48A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714-133C-4A87-AAAF-18AC7F3D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F6F-046F-486C-9EA7-FA4394DE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975-91FE-4F18-9DF9-080EA6D2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654-A8FB-4381-82C0-2FD74EE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82F-5677-49FE-8146-925B3F8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968-264B-4CAA-B592-3E995F3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0AD-344B-482C-B636-0A6805A9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317-E7AB-4E80-A245-FD6C7AFF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2A4-7B27-4DB0-A19C-D696704C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3F1-CAEA-418A-B25D-E70FC2A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teelfish Rg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Ubunt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D97EBBF-8CA6-4EE0-BB5C-2461717A00B6}" type="slidenum">
              <a:rPr b="0" lang="en-US" sz="900" spc="-1" strike="noStrike">
                <a:solidFill>
                  <a:srgbClr val="898989"/>
                </a:solidFill>
                <a:latin typeface="Ubuntu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208080" y="4541760"/>
            <a:ext cx="6534000" cy="11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208080" y="909720"/>
            <a:ext cx="6534000" cy="112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0"/>
          <p:cNvGrpSpPr/>
          <p:nvPr/>
        </p:nvGrpSpPr>
        <p:grpSpPr>
          <a:xfrm>
            <a:off x="5359320" y="4646520"/>
            <a:ext cx="1382760" cy="307080"/>
            <a:chOff x="5359320" y="4646520"/>
            <a:chExt cx="1382760" cy="307080"/>
          </a:xfrm>
        </p:grpSpPr>
        <p:sp>
          <p:nvSpPr>
            <p:cNvPr id="44" name="TextBox 11"/>
            <p:cNvSpPr/>
            <p:nvPr/>
          </p:nvSpPr>
          <p:spPr>
            <a:xfrm>
              <a:off x="5622840" y="4646520"/>
              <a:ext cx="111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pl-PL" sz="1400" spc="-1" strike="noStrike">
                  <a:solidFill>
                    <a:srgbClr val="6c6c6c"/>
                  </a:solidFill>
                  <a:latin typeface="Ubuntu"/>
                </a:rPr>
                <a:t>SOLA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13" descr=""/>
            <p:cNvPicPr/>
            <p:nvPr/>
          </p:nvPicPr>
          <p:blipFill>
            <a:blip r:embed="rId4"/>
            <a:stretch/>
          </p:blipFill>
          <p:spPr>
            <a:xfrm>
              <a:off x="5359320" y="4678920"/>
              <a:ext cx="26280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teelfish Rg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Layout Power Point 2011"/>
          <p:cNvPicPr/>
          <p:nvPr/>
        </p:nvPicPr>
        <p:blipFill>
          <a:blip r:embed="rId2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teelfish Rg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Ubuntu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ais.gov.br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Lean-Construction.jpg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0640" y="371160"/>
            <a:ext cx="61722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teelfish Rg"/>
              </a:rPr>
              <a:t>RELAÇÃO ANUAL DE INFORMAÇÕES SOCIAIS - RAIS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90640" y="1488960"/>
            <a:ext cx="5454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Registro Administrativo 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inistério do Trabalh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89240" y="703440"/>
            <a:ext cx="2849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rebuchet MS"/>
              </a:rPr>
              <a:t>Decreto 76.900/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Triangle 14"/>
          <p:cNvSpPr/>
          <p:nvPr/>
        </p:nvSpPr>
        <p:spPr>
          <a:xfrm>
            <a:off x="0" y="0"/>
            <a:ext cx="339840" cy="514368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Triangle 43"/>
          <p:cNvSpPr/>
          <p:nvPr/>
        </p:nvSpPr>
        <p:spPr>
          <a:xfrm rot="10800000">
            <a:off x="6543720" y="0"/>
            <a:ext cx="339840" cy="594360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m 1" descr="Descrição: nova_marca_GovernoFederal"/>
          <p:cNvPicPr/>
          <p:nvPr/>
        </p:nvPicPr>
        <p:blipFill>
          <a:blip r:embed="rId2"/>
          <a:stretch/>
        </p:blipFill>
        <p:spPr>
          <a:xfrm>
            <a:off x="2089080" y="4324320"/>
            <a:ext cx="2901960" cy="73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412920"/>
            <a:ext cx="6172200" cy="31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GRAMAS</a:t>
            </a: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 DA RAIS</a:t>
            </a:r>
            <a:endParaRPr b="0" lang="en-US" sz="17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2681640" y="2400480"/>
            <a:ext cx="11898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GDRAIS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34880" y="1030320"/>
            <a:ext cx="6015240" cy="3422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2745360" y="2543040"/>
            <a:ext cx="1232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Arial"/>
              </a:rPr>
              <a:t>GDRAIS 20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572760"/>
            <a:ext cx="642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584280"/>
            <a:ext cx="61722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GRAMAS DA 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57600" y="2355840"/>
            <a:ext cx="292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GDRAIS GEN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566640" y="1058760"/>
            <a:ext cx="6004080" cy="38689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2409840" y="2608200"/>
            <a:ext cx="2039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GDRAIS GENÉR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680760"/>
            <a:ext cx="6723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81" name="AutoShape 10"/>
          <p:cNvSpPr/>
          <p:nvPr/>
        </p:nvSpPr>
        <p:spPr>
          <a:xfrm rot="17576400">
            <a:off x="1403280" y="1808280"/>
            <a:ext cx="154080" cy="512640"/>
          </a:xfrm>
          <a:prstGeom prst="downArrow">
            <a:avLst>
              <a:gd name="adj1" fmla="val 50000"/>
              <a:gd name="adj2" fmla="val 8317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vert="eaVer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531720"/>
            <a:ext cx="617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ROGRAMAS DA 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243000" y="1112760"/>
            <a:ext cx="5940360" cy="351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6800" y="501120"/>
            <a:ext cx="61722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ENTREGA DA DECLARAÇÃO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7000" y="1341000"/>
            <a:ext cx="613224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1663d4"/>
                </a:solidFill>
                <a:latin typeface="Arial"/>
              </a:rPr>
              <a:t>SOMENTE PELA INTERNET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RAIS 2015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a  transmissão da declaração deve ser efetuada a partir do GDRAIS 2015 - Menu Declaração - funções Gravar Declaração ou Transmitir Declaraçã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RAIS Anos Anteriores (1976 a 2014)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a transmissão da declaração deve ser efetuada a partir do GDRAIS Genérico - Menu Declaração – funções Gravar Declaração ou Transmitir Declaração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8640" y="526680"/>
            <a:ext cx="61722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ENTREGA DA DECLARAÇÃO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093320"/>
            <a:ext cx="587052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Certificado Digital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66ff"/>
                </a:solidFill>
                <a:latin typeface="Arial"/>
              </a:rPr>
              <a:t>RAIS 2015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15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stabelecimentos ou arquivos que possuírem 11 ou mais vínculo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66ff"/>
                </a:solidFill>
                <a:latin typeface="Arial"/>
              </a:rPr>
              <a:t>RAIS de exercícios anteriores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- declarações</a:t>
            </a:r>
            <a:r>
              <a:rPr b="0" lang="pt-BR" sz="1500" spc="-1" strike="noStrike">
                <a:solidFill>
                  <a:srgbClr val="ff0000"/>
                </a:solidFill>
                <a:latin typeface="Arial"/>
              </a:rPr>
              <a:t> com qualquer número de empregad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6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 certificado tem que ser padrão ICP-Brasil e pode ser do estabelecimento (e-CNPJ) ou do responsável pela entrega da declaração (e-CPF ou e-CNPJ)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190" name="CaixaDeTexto 3"/>
          <p:cNvSpPr/>
          <p:nvPr/>
        </p:nvSpPr>
        <p:spPr>
          <a:xfrm>
            <a:off x="5715360" y="673200"/>
            <a:ext cx="4870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100" spc="-1" strike="noStrike">
                <a:solidFill>
                  <a:srgbClr val="ff0000"/>
                </a:solidFill>
                <a:latin typeface="Trebuchet MS"/>
              </a:rPr>
              <a:t>Co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526680"/>
            <a:ext cx="61722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FUNÇÕES WEB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4640" y="1383840"/>
            <a:ext cx="578664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stão disponíveis no </a:t>
            </a:r>
            <a:r>
              <a:rPr b="0" lang="pt-BR" sz="1500" spc="-1" strike="noStrike">
                <a:solidFill>
                  <a:srgbClr val="ff0000"/>
                </a:solidFill>
                <a:latin typeface="Arial"/>
              </a:rPr>
              <a:t>site da RAIS</a:t>
            </a:r>
            <a:r>
              <a:rPr b="0" lang="pt-BR" sz="15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s funções: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nsulta declaração RAIS 2008 e 2015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xclusão de estabelecimento RAIS 2015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xclusão de vínculos RAIS 2008 a 2015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Retificação dados do estabelecimento 2008 a 2015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4320" y="626760"/>
            <a:ext cx="617220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RETIFICAÇÃO D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DECLARAÇÃO</a:t>
            </a: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 2008 a 2015</a:t>
            </a:r>
            <a:endParaRPr b="0" lang="en-US" sz="17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000" y="1314000"/>
            <a:ext cx="6264000" cy="27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correndo erro na declaração enviada: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Estabelecimento </a:t>
            </a:r>
            <a:r>
              <a:rPr b="1" lang="pt-BR" sz="1500" spc="-1" strike="noStrike">
                <a:solidFill>
                  <a:srgbClr val="0066ff"/>
                </a:solidFill>
                <a:latin typeface="Arial"/>
              </a:rPr>
              <a:t>-</a:t>
            </a:r>
            <a:r>
              <a:rPr b="1" lang="pt-BR" sz="15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Erros nos dados CNPJ/CEI e </a:t>
            </a:r>
            <a:r>
              <a:rPr b="1" lang="pt-BR" sz="1500" spc="-1" strike="noStrike">
                <a:solidFill>
                  <a:srgbClr val="1051b0"/>
                </a:solidFill>
                <a:latin typeface="Arial"/>
              </a:rPr>
              <a:t>CEI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Vinculado</a:t>
            </a:r>
            <a:r>
              <a:rPr b="0" lang="pt-BR" sz="1500" spc="-1" strike="noStrike">
                <a:solidFill>
                  <a:srgbClr val="0070c0"/>
                </a:solidFill>
                <a:latin typeface="Arial"/>
              </a:rPr>
              <a:t> -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viar uma nova declaração do estabelecimento com inscrição CNPJ/CEI correta, utilizando o GDRAIS (atual ou genérico) e excluir a declaração incorreta utilizando as funções </a:t>
            </a:r>
            <a:r>
              <a:rPr b="1" lang="pt-BR" sz="1500" spc="-1" strike="noStrike">
                <a:solidFill>
                  <a:srgbClr val="ff3300"/>
                </a:solidFill>
                <a:latin typeface="Arial"/>
              </a:rPr>
              <a:t>Exclusão da RAI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675"/>
              </a:spcBef>
              <a:spcAft>
                <a:spcPts val="150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Erros nos demais nos dados do estabelecimento</a:t>
            </a:r>
            <a:r>
              <a:rPr b="0" lang="pt-BR" sz="1500" spc="-1" strike="noStrike">
                <a:solidFill>
                  <a:srgbClr val="0070c0"/>
                </a:solidFill>
                <a:latin typeface="Arial"/>
              </a:rPr>
              <a:t> -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utilizar a função 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Retificação Dados do Estabeleciment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2280" y="626760"/>
            <a:ext cx="617220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RETIFICAÇÃO DA DECLARAÇÃO 2008 a 2015</a:t>
            </a:r>
            <a:endParaRPr b="0" lang="en-US" sz="17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6640" y="1028880"/>
            <a:ext cx="6156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Trabalhador</a:t>
            </a:r>
            <a:r>
              <a:rPr b="1" lang="pt-BR" sz="1500" spc="-1" strike="noStrike">
                <a:solidFill>
                  <a:srgbClr val="0066ff"/>
                </a:solidFill>
                <a:latin typeface="Arial"/>
              </a:rPr>
              <a:t> -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Erros nos campos PIS/PASEP, data de admissão, data de desligamento e CBO</a:t>
            </a:r>
            <a:r>
              <a:rPr b="0" lang="pt-BR" sz="1500" spc="-1" strike="noStrike">
                <a:solidFill>
                  <a:srgbClr val="0070c0"/>
                </a:solidFill>
                <a:latin typeface="Arial"/>
              </a:rPr>
              <a:t> -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nviar uma nova RAIS correta somente dos empregados declarados com erro, utilizando o GDRAIS (atual  ou genérico) e excluir a declaração incorreta dos respectivos empregados utilizando a função 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exclusão de vínculo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675"/>
              </a:spcBef>
              <a:spcAft>
                <a:spcPts val="975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Erros nos demais dados do trabalhador</a:t>
            </a:r>
            <a:r>
              <a:rPr b="0" lang="pt-BR" sz="1500" spc="-1" strike="noStrike">
                <a:solidFill>
                  <a:srgbClr val="0070c0"/>
                </a:solidFill>
                <a:latin typeface="Arial"/>
              </a:rPr>
              <a:t> -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azer as devidas correções utilizando o GDRAIS (atual ou genérico), gravar e transmitir a declaração retificadora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099120" y="706320"/>
            <a:ext cx="5176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Trebuchet MS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8440" y="626760"/>
            <a:ext cx="617220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TIFICAÇÃO DA DECLARAÇÃO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6280" y="1482480"/>
            <a:ext cx="528300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NPJ / CEI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EI VINCULAD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IS / PASEP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TA DE ADMISSÃO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TA DE  DESLIGAMENTO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B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Quando ocorrer erro na declaração destas informações é necessário enviar uma nova RAIS e excluir a declaração incorreta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099120" y="669960"/>
            <a:ext cx="51768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Trebuchet MS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848160" y="1127160"/>
            <a:ext cx="2866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1663d4"/>
                </a:solidFill>
                <a:latin typeface="Arial"/>
              </a:rPr>
              <a:t>Campos Chave da Declar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6640" y="626760"/>
            <a:ext cx="617220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TIFICAÇÃO DA </a:t>
            </a: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DECLARAÇÃO</a:t>
            </a:r>
            <a:endParaRPr b="0" lang="en-US" sz="17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3240" y="1332000"/>
            <a:ext cx="6102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33cc"/>
                </a:solidFill>
                <a:latin typeface="Arial"/>
              </a:rPr>
              <a:t>Principais erros na declaraçã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975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ata de admissão e desligamento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(casos de transferência do empregado)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975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PIS/PASEP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uso indevido, e NIT)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975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Remuneração mensal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empregados com admissão ou desligamento no ano-base)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875200" y="698400"/>
            <a:ext cx="982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Trebuchet MS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ight Triangle 18"/>
          <p:cNvSpPr/>
          <p:nvPr/>
        </p:nvSpPr>
        <p:spPr>
          <a:xfrm>
            <a:off x="0" y="0"/>
            <a:ext cx="339840" cy="514368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Triangle 24"/>
          <p:cNvSpPr/>
          <p:nvPr/>
        </p:nvSpPr>
        <p:spPr>
          <a:xfrm rot="10800000">
            <a:off x="6518160" y="0"/>
            <a:ext cx="339840" cy="594360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143680" y="4648320"/>
            <a:ext cx="1562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8080" y="407880"/>
            <a:ext cx="57690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DECLARAÇÃO DA RAIS</a:t>
            </a:r>
            <a:endParaRPr b="0" lang="en-US" sz="1800" spc="-1" strike="noStrike">
              <a:solidFill>
                <a:srgbClr val="000000"/>
              </a:solidFill>
              <a:latin typeface="Ubuntu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Ubuntu"/>
            </a:endParaRPr>
          </a:p>
        </p:txBody>
      </p:sp>
      <p:pic>
        <p:nvPicPr>
          <p:cNvPr id="141" name="Imagem 1" descr="Descrição: nova_marca_GovernoFederal"/>
          <p:cNvPicPr/>
          <p:nvPr/>
        </p:nvPicPr>
        <p:blipFill>
          <a:blip r:embed="rId1"/>
          <a:stretch/>
        </p:blipFill>
        <p:spPr>
          <a:xfrm>
            <a:off x="4621320" y="4627440"/>
            <a:ext cx="2031840" cy="516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609480" y="1228680"/>
            <a:ext cx="573084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laração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Legisl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reto 76.900/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aria nº 269, de 29/12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ual de Orientação RAIS ANO-BAS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83840" y="1064880"/>
            <a:ext cx="604836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1663d4"/>
                </a:solidFill>
                <a:latin typeface="Arial"/>
              </a:rPr>
              <a:t>Verbas Rescisória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Valores pagos por ocasião da rescisão contratual e que  devem ser informados no campo verbas pagas na rescisão: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érias (simples, em dobro e proporcionais)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viso prévio indenizad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aldo do banco de hora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issídio coletiv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Gratificaçõe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573120"/>
            <a:ext cx="6172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MO DECL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436760"/>
            <a:ext cx="6723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Ubuntu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71960" y="1058760"/>
            <a:ext cx="2951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1663d4"/>
                </a:solidFill>
                <a:latin typeface="Trebuchet MS"/>
              </a:rPr>
              <a:t>Verbas Rescisó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573120"/>
            <a:ext cx="6172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MO DECL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8"/>
          <p:cNvSpPr/>
          <p:nvPr/>
        </p:nvSpPr>
        <p:spPr>
          <a:xfrm>
            <a:off x="5769000" y="720720"/>
            <a:ext cx="4870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100" spc="-1" strike="noStrike">
                <a:solidFill>
                  <a:srgbClr val="ff0000"/>
                </a:solidFill>
                <a:latin typeface="Trebuchet MS"/>
              </a:rPr>
              <a:t>Co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3" descr=""/>
          <p:cNvPicPr/>
          <p:nvPr/>
        </p:nvPicPr>
        <p:blipFill>
          <a:blip r:embed="rId2"/>
          <a:stretch/>
        </p:blipFill>
        <p:spPr>
          <a:xfrm>
            <a:off x="415800" y="1141560"/>
            <a:ext cx="5832720" cy="3687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0"/>
          <p:cNvSpPr/>
          <p:nvPr/>
        </p:nvSpPr>
        <p:spPr>
          <a:xfrm>
            <a:off x="4476240" y="1338120"/>
            <a:ext cx="23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pperplate Gothic Bold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7600" y="479160"/>
            <a:ext cx="617220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CIBO</a:t>
            </a:r>
            <a:r>
              <a:rPr b="1" lang="pt-BR" sz="1700" spc="-1" strike="noStrike">
                <a:solidFill>
                  <a:srgbClr val="ff0000"/>
                </a:solidFill>
                <a:latin typeface="Arial"/>
              </a:rPr>
              <a:t> DE ENTREGA</a:t>
            </a:r>
            <a:endParaRPr b="0" lang="en-US" sz="17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1200" y="1300320"/>
            <a:ext cx="59832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Recibos da RAIS, anos-base 1997 a 2015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Recibos da RAIS Genéric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s recibos são disponibilizados no site até 5 dias úteis após a entrega da declaraçã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 impressão deverá ser feita pelo o site  </a:t>
            </a:r>
            <a:r>
              <a:rPr b="1" lang="pt-BR" sz="1500" spc="-1" strike="noStrike" u="sng">
                <a:solidFill>
                  <a:srgbClr val="0066ff"/>
                </a:solidFill>
                <a:uFillTx/>
                <a:latin typeface="Arial"/>
              </a:rPr>
              <a:t>www.rais.gov.br</a:t>
            </a:r>
            <a:r>
              <a:rPr b="1" lang="pt-BR" sz="15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impressão de recibo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obter o recibo é necessário o número do CREA e CNPJ/CEI e CEI Vinculado (quando for o caso)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675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RAIS 1996 e anteriores: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 estabelecimento deve solicitar ao MTE em Brasília, por meio de correspondência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85800" y="965160"/>
            <a:ext cx="5886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400" spc="-1" strike="noStrike">
                <a:solidFill>
                  <a:srgbClr val="0070c0"/>
                </a:solidFill>
                <a:latin typeface="Arial"/>
              </a:rPr>
              <a:t>Estão disponíveis na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ight Triangle 18"/>
          <p:cNvSpPr/>
          <p:nvPr/>
        </p:nvSpPr>
        <p:spPr>
          <a:xfrm>
            <a:off x="0" y="0"/>
            <a:ext cx="339840" cy="514368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ight Triangle 24"/>
          <p:cNvSpPr/>
          <p:nvPr/>
        </p:nvSpPr>
        <p:spPr>
          <a:xfrm rot="10800000">
            <a:off x="6543720" y="0"/>
            <a:ext cx="339840" cy="594360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5143680" y="4648320"/>
            <a:ext cx="1562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tângulo 1"/>
          <p:cNvSpPr/>
          <p:nvPr/>
        </p:nvSpPr>
        <p:spPr>
          <a:xfrm>
            <a:off x="431640" y="1246320"/>
            <a:ext cx="602964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ecretaria de Políticas Públicas de Emprego – SP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Departamento de Emprego e Salário – D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oordenação-Geral de Estatísticas do Trabalho - C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Esplanada dos Ministérios - Bloco F, Ed. Anexo, Ala B, sala 2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Brasília / DF - 70056-9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: 0800-7282326 - (61) 2031-6232 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/ Fax: 0XX (61) 2031-82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3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ttp://www.rais.gov.br / rais.sppe@mte.gov.b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617840" y="277920"/>
            <a:ext cx="3889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brigado pela atenção</a:t>
            </a:r>
            <a:r>
              <a:rPr b="1" lang="pt-BR" sz="2400" spc="-1" strike="noStrike">
                <a:solidFill>
                  <a:srgbClr val="ff0000"/>
                </a:solidFill>
                <a:latin typeface="Trebuchet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m 1" descr="Descrição: nova_marca_GovernoFederal"/>
          <p:cNvPicPr/>
          <p:nvPr/>
        </p:nvPicPr>
        <p:blipFill>
          <a:blip r:embed="rId1"/>
          <a:stretch/>
        </p:blipFill>
        <p:spPr>
          <a:xfrm>
            <a:off x="4305240" y="4581360"/>
            <a:ext cx="2263680" cy="46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ight Triangle 18"/>
          <p:cNvSpPr/>
          <p:nvPr/>
        </p:nvSpPr>
        <p:spPr>
          <a:xfrm>
            <a:off x="0" y="0"/>
            <a:ext cx="339840" cy="514368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ight Triangle 24"/>
          <p:cNvSpPr/>
          <p:nvPr/>
        </p:nvSpPr>
        <p:spPr>
          <a:xfrm rot="10800000">
            <a:off x="6543720" y="0"/>
            <a:ext cx="339840" cy="5943600"/>
          </a:xfrm>
          <a:prstGeom prst="rtTriangle">
            <a:avLst/>
          </a:prstGeom>
          <a:solidFill>
            <a:srgbClr val="cc5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143680" y="4648320"/>
            <a:ext cx="1562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68080" y="407880"/>
            <a:ext cx="576900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BJETIVOS DA RAIS</a:t>
            </a:r>
            <a:endParaRPr b="0" lang="en-US" sz="1800" spc="-1" strike="noStrike">
              <a:solidFill>
                <a:srgbClr val="000000"/>
              </a:solidFill>
              <a:latin typeface="Ubuntu"/>
            </a:endParaRPr>
          </a:p>
        </p:txBody>
      </p:sp>
      <p:pic>
        <p:nvPicPr>
          <p:cNvPr id="147" name="Imagem 1" descr="Descrição: nova_marca_GovernoFederal"/>
          <p:cNvPicPr/>
          <p:nvPr/>
        </p:nvPicPr>
        <p:blipFill>
          <a:blip r:embed="rId1"/>
          <a:stretch/>
        </p:blipFill>
        <p:spPr>
          <a:xfrm>
            <a:off x="4621320" y="4586400"/>
            <a:ext cx="2031840" cy="515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006200"/>
            <a:ext cx="578628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estar subsídios ao controle relativo ao FGTS e à Previdência Social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ornecer informações sobre o mercado de trabalho formal brasileir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Viabilizar o pagamento do Abono Salarial (Art. 239 da CF e Lei 7.998/90) aos trabalhadores com  renda média mensal de até dois salários mínimo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-171360" algn="just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mpor o CNIS - Cadastro Nacional de Informações Sociai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71360" indent="0" algn="just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4080" y="472680"/>
            <a:ext cx="617220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700" spc="-1" strike="noStrike">
                <a:solidFill>
                  <a:srgbClr val="ff3300"/>
                </a:solidFill>
                <a:latin typeface="Arial"/>
              </a:rPr>
              <a:t>PRAZO DE ENTREGA – RAIS 2015</a:t>
            </a:r>
            <a:endParaRPr b="0" lang="en-US" sz="17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382760"/>
            <a:ext cx="599436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62720" indent="-16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66ff"/>
                </a:solidFill>
                <a:latin typeface="Arial"/>
              </a:rPr>
              <a:t>Início</a:t>
            </a:r>
            <a:r>
              <a:rPr b="1" lang="pt-BR" sz="1500" spc="-1" strike="noStrike">
                <a:solidFill>
                  <a:srgbClr val="1d46a3"/>
                </a:solidFill>
                <a:latin typeface="Arial"/>
              </a:rPr>
              <a:t>: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19 de janeiro de 2016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62720" indent="-16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66ff"/>
                </a:solidFill>
                <a:latin typeface="Arial"/>
              </a:rPr>
              <a:t>Término: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18 de março de 2016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62720" indent="-16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 prazo legal não foi prorrogado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Ubuntu"/>
            </a:endParaRPr>
          </a:p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Ubuntu"/>
            </a:endParaRPr>
          </a:p>
          <a:p>
            <a:pPr marL="162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Ubuntu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320" y="515520"/>
            <a:ext cx="61722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QUEM DEVE DECLARAR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04640" y="1274760"/>
            <a:ext cx="5786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odos os empregadores urbanos e rurais, conforme definido na CL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odas as pessoas jurídicas de direito privado, inclusive as empresas públic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mpresas individuais, inclusive as que não têm emprega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Órgãos e entidades da administração direta e indireta dos governos federal, estadual e municip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ndomínios e cartórios extrajudicia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mpregadores Pessoas físicas com emprega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4440" y="556920"/>
            <a:ext cx="617220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QUEM DEVE SER RELACIONADO</a:t>
            </a:r>
            <a:endParaRPr b="0" lang="en-US" sz="20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8640" y="1220760"/>
            <a:ext cx="604836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355680" indent="-355680" algn="just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mpregados urbanos e rurais, contratados por prazo determinado ou indeterminad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balhadores temporários (Lei nº 6.01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balhadores regidos pelo Estatuto do Trabalhador Rural (Lei nº 5.88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iretores sem vínculo empregatício para os quais o estabelecimento tenha optado pelo recolhimento FG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Servidores da administração pública direta e indir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balhadores avul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irigentes sindic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4720" y="525240"/>
            <a:ext cx="504828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QUEM DEVE SER RELACIONADO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51000" y="1222200"/>
            <a:ext cx="61023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mpregados dos cartórios extrajudici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prendiz contratado nos termos do art. 428 da CL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balhadores com contrato de trabalho por prazo determinado (Lei nº 9.60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balhadores com contrato de trabalho por tempo determinado (Lei nº 8.74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balhadores contratados por prazo determinado   ( por Lei Estadu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balhadores com contrato de trabalho por prazo determinado (Lei Municip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704200" y="681120"/>
            <a:ext cx="4842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100" spc="-1" strike="noStrike">
                <a:solidFill>
                  <a:srgbClr val="ff3300"/>
                </a:solidFill>
                <a:latin typeface="Arial"/>
              </a:rPr>
              <a:t>Cont</a:t>
            </a:r>
            <a:r>
              <a:rPr b="0" lang="pt-BR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8440" y="510840"/>
            <a:ext cx="61722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QUEM </a:t>
            </a:r>
            <a:r>
              <a:rPr b="1" lang="pt-BR" sz="1800" spc="-1" strike="noStrike" u="sng">
                <a:solidFill>
                  <a:srgbClr val="ff3300"/>
                </a:solidFill>
                <a:uFillTx/>
                <a:latin typeface="Arial"/>
              </a:rPr>
              <a:t>NÃO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 DEVE SER RELACIONADO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28760" y="1274760"/>
            <a:ext cx="613224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iretores sem vínculo empregatício, exceto se houver opção pelo FG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utônomos, eventuais, estagiá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Ocupantes de cargos eletivos, que não fizeram opção pelos vencimentos do órgão de orig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mpregados afastados TODO o ano-base por processo judic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mpregados domésti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operados ou cooperativa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" y="585360"/>
            <a:ext cx="61722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PROGRAMAS DA RAIS</a:t>
            </a:r>
            <a:endParaRPr b="0" lang="en-US" sz="1800" spc="-1" strike="noStrike">
              <a:solidFill>
                <a:srgbClr val="000000"/>
              </a:solidFill>
              <a:latin typeface="Steelfish Rg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8800" y="1060560"/>
            <a:ext cx="601056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GDRAIS2015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programa gerador e transmissor da declaração da RAIS ano-base 2015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RAIS Negativa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disponível para declaração de estabelecimento que não teve empregado no ano-base 2015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ff0000"/>
                </a:solidFill>
                <a:latin typeface="Arial"/>
              </a:rPr>
              <a:t>GDRAIS GENÉRICO</a:t>
            </a:r>
            <a:r>
              <a:rPr b="1" lang="pt-BR" sz="15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1976 a 2014) – programa gerador e transmissor de declaração da RAIS de exercícios anteriores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Todos os programas da RAIS estão disponíveis para download nos sites:</a:t>
            </a:r>
            <a:r>
              <a:rPr b="1" lang="pt-BR" sz="15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pt-BR" sz="1500" spc="-1" strike="noStrike" u="sng">
                <a:solidFill>
                  <a:srgbClr val="5f5f5f"/>
                </a:solidFill>
                <a:uFillTx/>
                <a:latin typeface="Arial"/>
                <a:hlinkClick r:id="rId2"/>
              </a:rPr>
              <a:t>www.rais.gov.br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500" spc="-1" strike="noStrike" u="sng">
                <a:solidFill>
                  <a:srgbClr val="009999"/>
                </a:solidFill>
                <a:uFillTx/>
                <a:latin typeface="Arial"/>
              </a:rPr>
              <a:t>e portal.mte.gov.br</a:t>
            </a:r>
            <a:r>
              <a:rPr b="1" lang="pt-BR" sz="15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Ubuntu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9:57:16Z</dcterms:created>
  <dc:creator>Tomek</dc:creator>
  <dc:description/>
  <dc:language>en-US</dc:language>
  <cp:lastModifiedBy>SRTE/CE - Luis Alves de Freitas Lima</cp:lastModifiedBy>
  <cp:lastPrinted>2016-05-23T21:06:50Z</cp:lastPrinted>
  <dcterms:modified xsi:type="dcterms:W3CDTF">2016-06-28T12:57:59Z</dcterms:modified>
  <cp:revision>858</cp:revision>
  <dc:subject/>
  <dc:title>PowerPoint Presentation</dc:title>
</cp:coreProperties>
</file>